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C40-D460-4C13-BA33-D8157D21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EFA-B26F-4F61-9127-86E5CDF4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FDD-969C-4BE3-BF57-F5ED0ECF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940-618D-41F3-8D5E-E1F9D227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AA08-2A98-46FF-9995-970F080C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9956-8051-4B51-A120-EC3BF7F6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6982-F478-41AE-9125-8E3D0A95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827A-44DA-4258-89A7-EEA6EA3A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F9F1-1A12-40E1-939E-975F79B5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08F5-8116-46EE-8894-E4E2C631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B4D2-E580-442E-B724-2DD47164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4F5-ECEF-4840-A322-099EFA35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0C44-9021-4295-A1B0-B409A3D2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FBB8-D4FC-48A2-BC36-C30BAA0C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7463-E945-4968-B893-D7D7E244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C97B-38E9-4828-BF5F-F526CB6A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FA13-376E-4EB3-918D-EDAD44E3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B94-628B-4652-B2BB-B5BB0C05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F30-DCBC-469C-B857-B8E56AF8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008-6EFD-4F24-AEE7-5F7FBCF7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15A-4888-4159-929F-04E14850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094-6ABE-4552-BF44-9C4E6189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43E-0393-48D3-9734-B50EBE3C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FEB-789B-45F3-BBC9-D50D9602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3130-269D-423C-A80F-7194A7F4D2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50D8-DE18-42C3-A802-041DCC2335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2.4—Defining, Naming &amp; Writing Acids &amp;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70440" y="579276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ed to know what acids behave when talking about ant-acid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39440" y="3170160"/>
            <a:ext cx="1442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41320" y="3133800"/>
            <a:ext cx="457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74960" y="2771640"/>
            <a:ext cx="0" cy="3319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91720" y="231624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79520" y="4011480"/>
            <a:ext cx="6858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660760" y="400212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76360" y="4334040"/>
            <a:ext cx="142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Bro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70040" y="203508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It’s an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55840" y="46562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o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Use “hydro___i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0080" y="3360600"/>
            <a:ext cx="37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mpounds h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Start with “H” (more than 1 “H” is OK, to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Do contain oxyg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name these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Use “___ic acids” for “-ate” an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Use “___ous acids” for “-ite” an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Oxygen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7040" y="54878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use “hydro” with these…the word “acid” is how you know it begins with hydrogen, not “hydro-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94760" y="2805120"/>
            <a:ext cx="21132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62360" y="2881440"/>
            <a:ext cx="9144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219560" y="2500200"/>
            <a:ext cx="0" cy="3319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14120" y="204300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76760" y="3795840"/>
            <a:ext cx="109692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286240" y="379548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32760" y="4176720"/>
            <a:ext cx="1660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Sulfi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63920" y="167148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It’s an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76760" y="4557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-ite”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Use “___ous”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94760" y="2805120"/>
            <a:ext cx="21132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05160" y="570060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lfurous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3960" y="2849400"/>
            <a:ext cx="21132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11560" y="2925720"/>
            <a:ext cx="9144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668760" y="254448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65120" y="208764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25960" y="3840120"/>
            <a:ext cx="109692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735440" y="3840120"/>
            <a:ext cx="0" cy="3319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39480" y="4221000"/>
            <a:ext cx="174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Sulfat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3120" y="171612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It’s an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25960" y="4602240"/>
            <a:ext cx="18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-ate”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Use “___i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3960" y="2849400"/>
            <a:ext cx="21132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34040" y="5745240"/>
            <a:ext cx="26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name for the following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32880" y="1996920"/>
            <a:ext cx="11775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37280" y="1996920"/>
            <a:ext cx="361152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Hydro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Nit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Hydrosulfu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hosphorous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name for the following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32880" y="1996920"/>
            <a:ext cx="11775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cid 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 these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The cation is H</a:t>
            </a:r>
            <a:r>
              <a:rPr b="0" lang="en-US" sz="27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Write the anion and char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Balance the charges by adding the appropriate subscript to the hydrogen 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dro-”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4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94600" y="3086280"/>
            <a:ext cx="4782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ydrofluor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4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94600" y="3086280"/>
            <a:ext cx="4782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ydrofluor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6000" y="3049560"/>
            <a:ext cx="1143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90392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20680" y="223200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01880" y="3927600"/>
            <a:ext cx="31986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467080" y="389412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05480" y="4249800"/>
            <a:ext cx="380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Does not contain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900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62160" y="4648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F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4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94600" y="3086280"/>
            <a:ext cx="4782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ydrofluor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3049560"/>
            <a:ext cx="1143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90392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20680" y="223200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01880" y="3927600"/>
            <a:ext cx="31986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67080" y="389412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05480" y="4249800"/>
            <a:ext cx="380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Does not contain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9900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62160" y="4648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F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70160" y="549432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98720" y="4343400"/>
            <a:ext cx="7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77120" y="50292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 + -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575928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ound is neu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cripts are not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rite these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The cation is H</a:t>
            </a:r>
            <a:r>
              <a:rPr b="0" lang="en-US" sz="27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If it is an “-ic” acid, the anion is the “-ate” polyatomic 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If it is an “-ous” acid, the anion is the “-ite” polyatomic 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Add subscript to the hydrogen cation to balance char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“Hydro-”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94960" y="3086280"/>
            <a:ext cx="3882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94960" y="3086280"/>
            <a:ext cx="3882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83080" y="3049560"/>
            <a:ext cx="1143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13064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7760" y="223200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01880" y="3927600"/>
            <a:ext cx="2286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151000" y="389412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8080" y="4249800"/>
            <a:ext cx="372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From the “___ate”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2572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46440" y="4648320"/>
            <a:ext cx="236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94960" y="3086280"/>
            <a:ext cx="3882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83080" y="3049560"/>
            <a:ext cx="1143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13064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7760" y="223200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01880" y="3927600"/>
            <a:ext cx="2286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151000" y="389412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48080" y="4249800"/>
            <a:ext cx="372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From the “___ate”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2572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46440" y="4648320"/>
            <a:ext cx="236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5494320"/>
            <a:ext cx="22161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49880" y="2209680"/>
            <a:ext cx="154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39360" y="2757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 + -2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595680"/>
            <a:ext cx="160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81680" y="31384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5880" y="412920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 + 1 + -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94600" y="3086280"/>
            <a:ext cx="34160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itrous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94600" y="3086280"/>
            <a:ext cx="34160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itrous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25880" y="3049560"/>
            <a:ext cx="1143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67344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90560" y="223200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01880" y="3927600"/>
            <a:ext cx="18288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981080" y="389412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9840" y="4249800"/>
            <a:ext cx="364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From the “___ite”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6852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46440" y="4648320"/>
            <a:ext cx="236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94600" y="3086280"/>
            <a:ext cx="34160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itrous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125880" y="3049560"/>
            <a:ext cx="11430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673440" y="2687400"/>
            <a:ext cx="0" cy="33156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560" y="223200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gen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01880" y="3927600"/>
            <a:ext cx="18288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981080" y="389412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89840" y="4249800"/>
            <a:ext cx="364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From the “___ite”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68520" y="18288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46440" y="4648320"/>
            <a:ext cx="236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NO</a:t>
            </a:r>
            <a:r>
              <a:rPr b="1" lang="en-US" sz="1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9933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68720" y="5494320"/>
            <a:ext cx="22161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42120" y="3921120"/>
            <a:ext cx="154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30880" y="44686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 + -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cids – Arrhenius Defin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Hydronium ion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nium ion is water + a hydrogen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496520" y="3319200"/>
            <a:ext cx="967680" cy="1811880"/>
            <a:chOff x="1496520" y="3319200"/>
            <a:chExt cx="967680" cy="1811880"/>
          </a:xfrm>
        </p:grpSpPr>
        <p:grpSp>
          <p:nvGrpSpPr>
            <p:cNvPr id="101" name=""/>
            <p:cNvGrpSpPr/>
            <p:nvPr/>
          </p:nvGrpSpPr>
          <p:grpSpPr>
            <a:xfrm>
              <a:off x="1496520" y="3319200"/>
              <a:ext cx="967680" cy="1214280"/>
              <a:chOff x="1496520" y="3319200"/>
              <a:chExt cx="967680" cy="1214280"/>
            </a:xfrm>
          </p:grpSpPr>
          <p:sp>
            <p:nvSpPr>
              <p:cNvPr id="102" name=""/>
              <p:cNvSpPr/>
              <p:nvPr/>
            </p:nvSpPr>
            <p:spPr>
              <a:xfrm rot="255600">
                <a:off x="1509840" y="4021560"/>
                <a:ext cx="390240" cy="37116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255600">
                <a:off x="1716120" y="3653280"/>
                <a:ext cx="574560" cy="52632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25560">
                <a:solidFill>
                  <a:srgbClr val="f5d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55600">
                <a:off x="2061000" y="4062240"/>
                <a:ext cx="389880" cy="3711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55600">
                <a:off x="1670040" y="4251600"/>
                <a:ext cx="183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55600">
                <a:off x="1775520" y="3325320"/>
                <a:ext cx="183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608480" y="473220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879640" y="3774960"/>
            <a:ext cx="397080" cy="44316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32400" y="3774960"/>
            <a:ext cx="1622160" cy="457200"/>
          </a:xfrm>
          <a:prstGeom prst="rightArrow">
            <a:avLst>
              <a:gd name="adj1" fmla="val 50000"/>
              <a:gd name="adj2" fmla="val 88701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734640" y="3654360"/>
            <a:ext cx="694440" cy="547200"/>
            <a:chOff x="3734640" y="3654360"/>
            <a:chExt cx="694440" cy="547200"/>
          </a:xfrm>
        </p:grpSpPr>
        <p:sp>
          <p:nvSpPr>
            <p:cNvPr id="111" name=""/>
            <p:cNvSpPr/>
            <p:nvPr/>
          </p:nvSpPr>
          <p:spPr>
            <a:xfrm rot="255600">
              <a:off x="3747960" y="3816000"/>
              <a:ext cx="388800" cy="371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87720" y="36543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766920" y="3497400"/>
            <a:ext cx="1192680" cy="1233000"/>
            <a:chOff x="6766920" y="3497400"/>
            <a:chExt cx="1192680" cy="1233000"/>
          </a:xfrm>
        </p:grpSpPr>
        <p:grpSp>
          <p:nvGrpSpPr>
            <p:cNvPr id="114" name=""/>
            <p:cNvGrpSpPr/>
            <p:nvPr/>
          </p:nvGrpSpPr>
          <p:grpSpPr>
            <a:xfrm>
              <a:off x="6766920" y="3516120"/>
              <a:ext cx="967680" cy="1214280"/>
              <a:chOff x="6766920" y="3516120"/>
              <a:chExt cx="967680" cy="1214280"/>
            </a:xfrm>
          </p:grpSpPr>
          <p:sp>
            <p:nvSpPr>
              <p:cNvPr id="115" name=""/>
              <p:cNvSpPr/>
              <p:nvPr/>
            </p:nvSpPr>
            <p:spPr>
              <a:xfrm rot="255600">
                <a:off x="6780240" y="4218480"/>
                <a:ext cx="390240" cy="37116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55600">
                <a:off x="6986520" y="3850200"/>
                <a:ext cx="574560" cy="52632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25560">
                <a:solidFill>
                  <a:srgbClr val="f5d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55600">
                <a:off x="7331400" y="4259160"/>
                <a:ext cx="389880" cy="37116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255600">
                <a:off x="6940440" y="4448520"/>
                <a:ext cx="183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55600">
                <a:off x="7045920" y="3522240"/>
                <a:ext cx="183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rot="255600">
              <a:off x="7086600" y="3511080"/>
              <a:ext cx="388800" cy="3715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18240" y="357012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95280" y="5572080"/>
            <a:ext cx="83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ition, if an acid is to give a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water, then all acids will have hydrogen as the cation (first element writt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rmula for the following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12000" y="1996920"/>
            <a:ext cx="271512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hosph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ydroiod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rbonous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er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312000" y="1996920"/>
            <a:ext cx="271512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hosph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ydroiod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rbonous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Per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93040" y="1996920"/>
            <a:ext cx="22557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HClO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rmula for the following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ases – Arrhenius Defin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produce the hydroxide ion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079160" y="3241440"/>
            <a:ext cx="1162080" cy="1214640"/>
            <a:chOff x="4079160" y="3241440"/>
            <a:chExt cx="1162080" cy="1214640"/>
          </a:xfrm>
        </p:grpSpPr>
        <p:sp>
          <p:nvSpPr>
            <p:cNvPr id="309" name=""/>
            <p:cNvSpPr/>
            <p:nvPr/>
          </p:nvSpPr>
          <p:spPr>
            <a:xfrm rot="255600">
              <a:off x="4643280" y="3674520"/>
              <a:ext cx="390600" cy="371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255600">
              <a:off x="4134960" y="3576600"/>
              <a:ext cx="574920" cy="525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255600">
              <a:off x="4088880" y="417456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255600">
              <a:off x="4193640" y="3247920"/>
              <a:ext cx="18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57840" y="33591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459240" y="4170240"/>
            <a:ext cx="21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xide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&amp; Writing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bases are just ionic compounds with “hydroxide” as their 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exception to this is amm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NH</a:t>
            </a:r>
            <a:r>
              <a:rPr b="0" lang="en-US" sz="2700" spc="-1" strike="noStrike" baseline="-25000">
                <a:solidFill>
                  <a:srgbClr val="9933ff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 (ammonia) is a base even though it doesn’t contain “-OH” as the an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39440" y="3170160"/>
            <a:ext cx="20901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39440" y="3170160"/>
            <a:ext cx="20901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41320" y="3133800"/>
            <a:ext cx="4572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74960" y="2771640"/>
            <a:ext cx="0" cy="3319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37560" y="2316240"/>
            <a:ext cx="130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87480" y="4011480"/>
            <a:ext cx="685800" cy="0"/>
          </a:xfrm>
          <a:prstGeom prst="line">
            <a:avLst/>
          </a:prstGeom>
          <a:ln w="7632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168720" y="4002120"/>
            <a:ext cx="0" cy="317520"/>
          </a:xfrm>
          <a:prstGeom prst="line">
            <a:avLst/>
          </a:prstGeom>
          <a:ln w="255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67360" y="4334040"/>
            <a:ext cx="167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Arial"/>
              </a:rPr>
              <a:t>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70080" y="3360600"/>
            <a:ext cx="39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rmula or name for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13440" y="1996920"/>
            <a:ext cx="36644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(OH)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K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r(OH)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opper (II)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70600" y="1996920"/>
            <a:ext cx="3778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alc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otas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Stront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Cu(OH)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Mg(OH)</a:t>
            </a:r>
            <a:r>
              <a:rPr b="0" lang="en-US" sz="2800" spc="-1" strike="noStrike" baseline="-25000">
                <a:solidFill>
                  <a:srgbClr val="99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8280" y="2149560"/>
            <a:ext cx="2536920" cy="188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formula or name for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13440" y="1996920"/>
            <a:ext cx="36644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a(OH)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K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r(OH)</a:t>
            </a:r>
            <a:r>
              <a:rPr b="0" lang="en-US" sz="2800" spc="-1" strike="noStrike" baseline="-25000">
                <a:solidFill>
                  <a:srgbClr val="6767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Copper (II)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do Acids produce Hydroniu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082240" y="2790720"/>
            <a:ext cx="967680" cy="1214280"/>
            <a:chOff x="2082240" y="2790720"/>
            <a:chExt cx="967680" cy="1214280"/>
          </a:xfrm>
        </p:grpSpPr>
        <p:sp>
          <p:nvSpPr>
            <p:cNvPr id="125" name=""/>
            <p:cNvSpPr/>
            <p:nvPr/>
          </p:nvSpPr>
          <p:spPr>
            <a:xfrm rot="255600">
              <a:off x="2095560" y="3493080"/>
              <a:ext cx="390240" cy="371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5600">
              <a:off x="2301840" y="3124800"/>
              <a:ext cx="574560" cy="5263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55600">
              <a:off x="2646720" y="3533760"/>
              <a:ext cx="389880" cy="371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55600">
              <a:off x="2255760" y="3723120"/>
              <a:ext cx="183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55600">
              <a:off x="2361240" y="2796840"/>
              <a:ext cx="183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884200" y="3003480"/>
            <a:ext cx="1027800" cy="719280"/>
            <a:chOff x="5884200" y="3003480"/>
            <a:chExt cx="1027800" cy="719280"/>
          </a:xfrm>
        </p:grpSpPr>
        <p:sp>
          <p:nvSpPr>
            <p:cNvPr id="131" name=""/>
            <p:cNvSpPr/>
            <p:nvPr/>
          </p:nvSpPr>
          <p:spPr>
            <a:xfrm rot="255600">
              <a:off x="5897520" y="3200040"/>
              <a:ext cx="389160" cy="371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62560" y="3110040"/>
              <a:ext cx="649440" cy="6127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12320" y="30034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194200" y="420372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65000" y="42465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48760" y="476244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cation with some a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-0.18542 -0.06227 E">
                                      <p:cBhvr>
                                        <p:cTn id="6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7 L 0.1967 -3.7037E-007 E">
                                      <p:cBhvr>
                                        <p:cTn id="7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do Acids produce Hydroniu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55600">
            <a:off x="4155840" y="2782800"/>
            <a:ext cx="185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877560" y="2759400"/>
            <a:ext cx="968040" cy="1231560"/>
            <a:chOff x="3877560" y="2759400"/>
            <a:chExt cx="968040" cy="1231560"/>
          </a:xfrm>
        </p:grpSpPr>
        <p:sp>
          <p:nvSpPr>
            <p:cNvPr id="140" name=""/>
            <p:cNvSpPr/>
            <p:nvPr/>
          </p:nvSpPr>
          <p:spPr>
            <a:xfrm rot="255600">
              <a:off x="3890880" y="3479400"/>
              <a:ext cx="390600" cy="371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55600">
              <a:off x="4096800" y="3111480"/>
              <a:ext cx="574920" cy="525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55600">
              <a:off x="4441680" y="3519000"/>
              <a:ext cx="390600" cy="371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55600">
              <a:off x="4051080" y="3709800"/>
              <a:ext cx="183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55600">
              <a:off x="4199040" y="2773080"/>
              <a:ext cx="388800" cy="371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564080" y="2576520"/>
            <a:ext cx="649440" cy="719280"/>
            <a:chOff x="4564080" y="2576520"/>
            <a:chExt cx="649440" cy="719280"/>
          </a:xfrm>
        </p:grpSpPr>
        <p:sp>
          <p:nvSpPr>
            <p:cNvPr id="146" name=""/>
            <p:cNvSpPr/>
            <p:nvPr/>
          </p:nvSpPr>
          <p:spPr>
            <a:xfrm>
              <a:off x="4564080" y="2682720"/>
              <a:ext cx="649440" cy="613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13480" y="257652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701880" y="27892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2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do Acids produce Hydroniu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94800" y="2749680"/>
            <a:ext cx="968040" cy="1231560"/>
            <a:chOff x="1594800" y="2749680"/>
            <a:chExt cx="968040" cy="1231560"/>
          </a:xfrm>
        </p:grpSpPr>
        <p:sp>
          <p:nvSpPr>
            <p:cNvPr id="151" name=""/>
            <p:cNvSpPr/>
            <p:nvPr/>
          </p:nvSpPr>
          <p:spPr>
            <a:xfrm rot="255600">
              <a:off x="1608120" y="3469680"/>
              <a:ext cx="390600" cy="371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55600">
              <a:off x="1814040" y="3101760"/>
              <a:ext cx="574920" cy="525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55600">
              <a:off x="2158920" y="3509280"/>
              <a:ext cx="390600" cy="371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55600">
              <a:off x="1768320" y="3700080"/>
              <a:ext cx="183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55600">
              <a:off x="1916280" y="2763360"/>
              <a:ext cx="388800" cy="371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419120" y="27795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837480" y="2581200"/>
            <a:ext cx="649080" cy="719280"/>
            <a:chOff x="6837480" y="2581200"/>
            <a:chExt cx="649080" cy="719280"/>
          </a:xfrm>
        </p:grpSpPr>
        <p:sp>
          <p:nvSpPr>
            <p:cNvPr id="158" name=""/>
            <p:cNvSpPr/>
            <p:nvPr/>
          </p:nvSpPr>
          <p:spPr>
            <a:xfrm>
              <a:off x="6837480" y="2687400"/>
              <a:ext cx="649080" cy="613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86520" y="258120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191600" y="418788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nium 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9080" y="42465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mpounds h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Start with “H” (more than 1 “H” is OK, to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Do not contain oxyg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name these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Use “hydro____ic acid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Fill in the blank with the anion’s name without the last syll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non-oxygen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39440" y="3170160"/>
            <a:ext cx="1442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19:36:13Z</dcterms:created>
  <dc:creator>Luke H Deters</dc:creator>
  <dc:description/>
  <dc:language>en-US</dc:language>
  <cp:lastModifiedBy>detersk</cp:lastModifiedBy>
  <dcterms:modified xsi:type="dcterms:W3CDTF">2006-09-25T13:31:49Z</dcterms:modified>
  <cp:revision>11</cp:revision>
  <dc:subject/>
  <dc:title>Chemistry You Need to Know</dc:title>
</cp:coreProperties>
</file>